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B99F-8565-47BE-9AF0-195E07C8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1DB2-2DE5-4B9C-B3AF-C6F527E8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A1F-727B-4EFD-9A66-3E40FAC8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8EBB-0C38-4251-9AC6-6A15F21C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3DD1-534B-4071-8507-285CB560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41C-90D9-4ED1-8325-4FAC72FD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7860-E678-462E-B97B-295C8BF3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A98F-40A8-43AE-A2CC-0A1A758C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2B8-E32A-4E44-AEBD-4EECA081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9CB6-424E-4653-A220-311C097E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3EE1-D3AD-45FB-AC7A-C4DAAD90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1A66-AB81-4F21-AD10-5668F724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1372-1EED-413B-AFBB-300B90B37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17640"/>
          <a:stretch/>
        </p:blipFill>
        <p:spPr>
          <a:xfrm>
            <a:off x="679320" y="189000"/>
            <a:ext cx="70614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8:10:02Z</dcterms:created>
  <dc:creator>IMS</dc:creator>
  <dc:description/>
  <dc:language>en-US</dc:language>
  <cp:lastModifiedBy>IMS</cp:lastModifiedBy>
  <dcterms:modified xsi:type="dcterms:W3CDTF">2008-02-16T09:38:22Z</dcterms:modified>
  <cp:revision>2</cp:revision>
  <dc:subject/>
  <dc:title>Slide 1</dc:title>
</cp:coreProperties>
</file>